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85CB-B337-4A78-B97C-93AE045BC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DD30-33E8-4A94-94C8-5A4DBCE6F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5716-F40E-4239-BF96-170EF11B3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C0FA-1189-4A93-AE4B-DF939F7CD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CA2A-1A8E-4008-9434-EB71C60BB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C311-28A3-4A1F-8CE8-45F0F5E2C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7B6C-051A-424F-BEAD-0313F0460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5790-EF11-4DF0-B7E8-944096815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E649-E2C8-4AB6-9384-F03AF88B1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2403-2999-4989-9A54-5455A696E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EE483-AEA2-418A-BEC2-7368A4BCC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B4A5-BFC2-4D7C-85AB-9397BDBD8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E5C2-34DD-4013-A383-07D039B30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9CCD-EA67-49B2-A9E6-B53B98904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FAE1-24B4-4CAC-A40F-2E5B1B987CF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7440" y="65008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benedict.com/" TargetMode="External"/><Relationship Id="rId4" Type="http://schemas.openxmlformats.org/officeDocument/2006/relationships/hyperlink" Target="http://www.utsystem.edu/OGC/IntellectualProperty/faculty.htm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fast.org.uk/" TargetMode="External"/><Relationship Id="rId2" Type="http://schemas.openxmlformats.org/officeDocument/2006/relationships/hyperlink" Target="http://www.utsystem.edu/OGC/IntellectualProperty/mono2.htm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aosul Copyright-ului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91404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n ghid educa</a:t>
            </a:r>
            <a:r>
              <a:rPr b="0" lang="ro-RO" sz="40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onal de utilizare a dreptului de auto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zentarea a fost creat</a:t>
            </a:r>
            <a:r>
              <a:rPr b="0" lang="ro-RO" sz="1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entru cursu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720" y="228240"/>
            <a:ext cx="86932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Folosire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a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ulterioar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dincolo de folosirea legal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Da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exis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osibilitatea ca un proiect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ie 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i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(de exemplu publicat pe Internet): ob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 permisiunea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l cre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, de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astept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riso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rii dreptului de au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riso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a publica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le elevil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 exemplu de scrisoar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 folosi  acest curs (Modul3/ Activitate2/Resurse suplimentare/Model de scrisoare de acord…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054B-5EBC-4892-BF67-F97224D453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5760" y="1371600"/>
            <a:ext cx="82375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fatur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ti ca acestea sunt sfaturi, nu leg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u toate acestea, cu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t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e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rtezi mai mult de aceste sfaturi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u 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mai mult a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a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sa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i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 afara “folosirii legal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F480-8A48-4B2F-BAE6-616FB09EA0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r despre softwar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ca nu ai permisiunea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rului dreptului de autor, atunc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 ilegal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uri o lice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 singur utilizator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o folos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ai multe calculatoare sau un ser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wnloadezi softuri cu drept de autor de p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ter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prumu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ii tale softul pe care l-ai procurat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alculatorul 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 de aca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3EE6-5453-4A8A-A0E0-34FE94B349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Copyright and Fair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B751-D946-48A4-A93A-AE769485FB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1663-1875-4FF8-8FBE-73917305A8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146B-BAA7-471D-8485-5C9D3C9895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mono2.htm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824C-784A-4D31-9B06-6913196ABA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tilizarea acestei prezent</a:t>
            </a:r>
            <a:r>
              <a:rPr b="1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ceasta prezentare  poate fi utilizat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 scopuri non-profit , educa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onale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 apar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e firmei 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382C-769B-4C4E-BE3C-F94566DAD1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F1A3-E8D0-4E78-90EF-4FFE9C9927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 este copyrightul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reptul exclusiv de a produce si reproduce, de a reprezenta in public sau de a publica o opera originala artistic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sau literal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. Aproape orice creat privat 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 original   este protejat,indiferent dac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are o 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iin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re sau nu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57E0-78B9-4833-BB9B-E6E463B40D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temi care nu sunt proteja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ţ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: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emple de itemi care nu sunt protej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legea copyrightulu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care nu au fost scrise sau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regist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i, metode, descoperiri care se disting dintr-o descriere, expli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e sau ilustr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constituit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intregime din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 comune( de ex : calendare standard, carte de telefoane 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temi din domeniul public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joritatea materialelor guvernamentale (unii itemi cre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antreprenori pt guvern pot fi protej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p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20D3-841C-4533-A016-6CB0BE592B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Clauza folosirii lega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osirea legal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ste o parte a legii copyrightului . Permite oamenilor sa foloseasca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opieze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da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unt folosit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enta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ţ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urs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rcet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17CE-56EB-4BC7-BB4D-69E3F03682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4 factori 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 car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ajut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la determinarea folosirii lega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37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Scopul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ş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i caracterul folosirii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inclusiv da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folosirea este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e natu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comercial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n scopuri educative nonprof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ate fi folosit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scopuri educ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onale, nu doar intr-un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ediu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Natura lucr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rii protej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folosirea legal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se apli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mai pu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lor creative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compar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e cu cele bazate pe fapte din natu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Marimea par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ii folosit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raport cu lucrarea protejat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- folosirea doar a ceea ce este necesar, nu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i a “miezului”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4.   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Efectul folosirii asupra poten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ialei pie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a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 protejat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- copierea nu trebuie s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afecteze pi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a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 protejat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copierea materialelor din consumabil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  culegeri de probleme,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tareste mult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potriva  folosirii leg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5602-2031-4E93-8962-BB28EA8135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Ghid p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entru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elev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Elevii pot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i din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d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realizeaz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opriile proiecte edu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onale multimedia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 anumit c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zenta  propriile proiecte la cursul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are au fost cre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 proiectel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propriile portofolii ca exemple ale muncii academic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opuri personale ulterioare cum ar fi servicii sau interviur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FE44C-ACBA-4143-AE88-14008F1053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Ghid pentru profeso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Profesorii po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i din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d  realizeaz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oiecte edu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onale multimedia care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v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ajutorul pre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 proiectele pe termen nedefinit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urm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arele scopu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le prezenta colegilor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ca exemeple la confer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le 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 portofoli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uz personal cum ar fi promo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 sau  interviu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jobu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oloseas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roiectel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redare pe o perioa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d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la 2 ani dupa prima folosire cu o cla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osirea du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ceas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ioa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 timp necesi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a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iecare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e protej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E263-F401-49ED-AB2E-116A916A11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37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Sfaturi p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entru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 a r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â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ne 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î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n permisiunea legal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371600"/>
          <a:ext cx="8331120" cy="4343400"/>
        </p:xfrm>
        <a:graphic>
          <a:graphicData uri="http://schemas.openxmlformats.org/drawingml/2006/table">
            <a:tbl>
              <a:tblPr/>
              <a:tblGrid>
                <a:gridCol w="3295440"/>
                <a:gridCol w="50356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 (animati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 min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1000 cuvi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z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de cuvinte; nu mai multe de 3 poezii de acel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autor; nu mai mult de 5 poezii dintr-o singur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antolog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zica,versuri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0 secun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tografii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Ilustrata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ini de la un autor;Nu mai mult de  10% sau 15 imagini dintr-o singur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public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turi de date nume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din 2500  c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â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uri sau celu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52280" y="457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n lucrarea protejat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folosi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c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 mai pu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din urm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ar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DBF0-FED3-44A0-865B-4BB58B04DC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Atribuiri 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ş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 recuno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ş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tii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nţ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Numi</a:t>
            </a:r>
            <a:r>
              <a:rPr b="0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i sursel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af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i semnul de copyright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Verdana"/>
              </a:rPr>
              <a:t>Numirea surselo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- d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o descriere bibliografi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omple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u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le care sunt disponibil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ncluzand autorul, titlul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pografia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cul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ata ti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ri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ccff"/>
                </a:solidFill>
                <a:latin typeface="Verdana"/>
              </a:rPr>
              <a:t>Afi</a:t>
            </a:r>
            <a:r>
              <a:rPr b="0" lang="ro-RO" sz="1800" spc="-1" strike="noStrike">
                <a:solidFill>
                  <a:srgbClr val="66ccff"/>
                </a:solidFill>
                <a:latin typeface="Verdana"/>
              </a:rPr>
              <a:t>ş</a:t>
            </a:r>
            <a:r>
              <a:rPr b="0" lang="fr-FR" sz="1800" spc="-1" strike="noStrike">
                <a:solidFill>
                  <a:srgbClr val="66ccff"/>
                </a:solidFill>
                <a:latin typeface="Verdana"/>
              </a:rPr>
              <a:t>ati semnul de copyright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:-sub poze adaug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 despre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orul copyrightului(anul primei apar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umele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orului dreptului de auto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</a:t>
            </a:r>
            <a:r>
              <a:rPr b="0" lang="ro-RO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pl</a:t>
            </a:r>
            <a:r>
              <a:rPr b="0" lang="ro-RO" sz="20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D55F-6595-4D12-97C6-6C92A74DE1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Carmen</cp:lastModifiedBy>
  <dcterms:modified xsi:type="dcterms:W3CDTF">2007-08-24T19:24:46Z</dcterms:modified>
  <cp:revision>315</cp:revision>
  <dc:subject/>
  <dc:title>Copyright Chaos</dc:title>
</cp:coreProperties>
</file>